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96E3CE7-81BE-44EE-95D7-7D98F605F7D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8903DDA-F675-400E-93F6-21E365A38AC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FB2AAC5-65ED-4177-8F2A-D79CF9DCFAE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7204F82E-A792-43C1-9A70-4C65C3E36B2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C123F66-153D-4DDD-A121-D8824D9C90A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6F2EDF9D-30AA-4185-BA0B-3BFC3C85B0B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0B8F0AE-6DCA-47E5-AFDE-1100DA1EC9F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BA759177-1031-4EDB-BAB5-FC6E80EF6AE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2D885D0-3EFD-4B36-95AA-9BAB3900C43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41CD14A-29B9-47B3-8AC1-968A867B0A83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403E1F8-D10B-471C-B5E0-B5B8F1BC2A5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E65FFC5-B996-48C4-94B8-C1A4D8F4B4B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20DB287-5248-45A8-9926-BD587B97F11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C7F334C-1D9D-479B-916D-E77CD79AE73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9426180-B6B8-4587-85E7-DA3AC3E5FF3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0D3E962-3FCA-47C3-8413-1DF5A9631C4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5CB2FEF-FF3E-403E-9F84-DC3E467C182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A6E06CE-C592-4838-BFF3-337C4B24454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1F9C7FD-9579-4CF2-A481-27F75BF120B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C86D7B3-E470-44EA-889F-86DAA14290F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2EBCE8C-DD92-4273-A022-CF32B857E53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F00468F-D903-45B2-90B3-C35B5698870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32CE0BB-A765-4539-ADE6-A0775B52695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9D57EC9-5BB4-45FF-9BCB-4EF8E63667CD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797478B-011D-4775-BEAF-B29F9062DFD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F3E417F-9C9E-4418-9220-C839E810D76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4DA256B-433D-4813-B5C1-16DB0689972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920880" y="77796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07920" y="4733640"/>
            <a:ext cx="498816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8C8F-A90C-48DD-ABAB-049AB58AE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ACA8-3A92-4C77-A6EB-C5145814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44AF-00BE-4228-974F-6958F743D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AA9A-E973-4033-809B-C6FF8211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7EB4-4AB3-428C-BDB5-C60A924B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7E5C-4E09-4179-BBAF-A9469B51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F457-62B8-4CA7-AE1D-F472AFDD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5A7D-FD6B-44C3-9668-99FFFD4C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2E00-DCD2-429B-9319-CB2230D0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F5F-3076-42EE-B0DC-E3646407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FE78-592C-410C-9F15-9BE0AE5E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2F82-EF3D-4E99-A336-7BD61F47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0714F-9CF7-4875-86A4-6610149E941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A776-3E13-4095-AC4B-09758D7F6A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86920" y="1916280"/>
            <a:ext cx="723924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249"/>
              </a:spcBef>
              <a:spcAft>
                <a:spcPts val="2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Youthpas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55" name="Line 8"/>
          <p:cNvSpPr/>
          <p:nvPr/>
        </p:nvSpPr>
        <p:spPr>
          <a:xfrm>
            <a:off x="1403280" y="285264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Youthpass-Logo"/>
          <p:cNvPicPr/>
          <p:nvPr/>
        </p:nvPicPr>
        <p:blipFill>
          <a:blip r:embed="rId5"/>
          <a:stretch/>
        </p:blipFill>
        <p:spPr>
          <a:xfrm>
            <a:off x="6588000" y="2133720"/>
            <a:ext cx="133380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03C64-D79D-4589-9D67-C14BA5F443E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8"/>
          <p:cNvSpPr/>
          <p:nvPr/>
        </p:nvSpPr>
        <p:spPr>
          <a:xfrm>
            <a:off x="609480" y="1447920"/>
            <a:ext cx="8305920" cy="47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thpass in Action(s) –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thpass in Action  1.2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 Initiativ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ists since April 2010, retroactively valid since 2007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’s a more educative approach in the website to support the Y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roups – methods, directive questions, e-mail reminder,</a:t>
            </a: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 feedbac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questionnair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thpass Guide chapter on Youth Initiatives about to be publish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questionnaire will be uploaded in the coming week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533520" y="228600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1" descr="Youthpass-Logo"/>
          <p:cNvPicPr/>
          <p:nvPr/>
        </p:nvPicPr>
        <p:blipFill>
          <a:blip r:embed="rId5"/>
          <a:stretch/>
        </p:blipFill>
        <p:spPr>
          <a:xfrm>
            <a:off x="7010280" y="1752480"/>
            <a:ext cx="14432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D6CF-AE71-4FC8-9E66-8682982BE8E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8"/>
          <p:cNvSpPr/>
          <p:nvPr/>
        </p:nvSpPr>
        <p:spPr>
          <a:xfrm>
            <a:off x="457200" y="1905120"/>
            <a:ext cx="8686800" cy="33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thpass in Action(s) –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EW! Youthpass in Action – 1.3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a next step, Youthpass will be developed for Youth Democrac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ject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st phase developed in 201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9"/>
          <p:cNvSpPr/>
          <p:nvPr/>
        </p:nvSpPr>
        <p:spPr>
          <a:xfrm>
            <a:off x="533520" y="259092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0" descr="Youthpass-Logo"/>
          <p:cNvPicPr/>
          <p:nvPr/>
        </p:nvPicPr>
        <p:blipFill>
          <a:blip r:embed="rId5"/>
          <a:stretch/>
        </p:blipFill>
        <p:spPr>
          <a:xfrm>
            <a:off x="7238880" y="1981080"/>
            <a:ext cx="144324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0ADD-5796-40DF-87B4-6540488A19C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-380880" y="1905120"/>
            <a:ext cx="90676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59" name="Line 8"/>
          <p:cNvSpPr/>
          <p:nvPr/>
        </p:nvSpPr>
        <p:spPr>
          <a:xfrm>
            <a:off x="685800" y="281952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9" descr="Youthpass-Logo"/>
          <p:cNvPicPr/>
          <p:nvPr/>
        </p:nvPicPr>
        <p:blipFill>
          <a:blip r:embed="rId5"/>
          <a:stretch/>
        </p:blipFill>
        <p:spPr>
          <a:xfrm>
            <a:off x="7315200" y="2209680"/>
            <a:ext cx="1333440" cy="3430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520560" y="2895480"/>
            <a:ext cx="172468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pass for European Voluntary Servi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rtificate ver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e available in 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zec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utch, English, Estonian, Finnis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lemish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rench, German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eek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Hungari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Italian, Lithuania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orwegian, Polish,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rtugues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Romanian, Slovak, Slovenian, Spanish, Swedish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urkish;  Icelandic and Croatian following soo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B4CD-EFBA-4B27-800E-90DFC86B3F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-457200" y="198108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69" name="Line 8"/>
          <p:cNvSpPr/>
          <p:nvPr/>
        </p:nvSpPr>
        <p:spPr>
          <a:xfrm>
            <a:off x="609480" y="289548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9" descr="Youthpass-Logo"/>
          <p:cNvPicPr/>
          <p:nvPr/>
        </p:nvPicPr>
        <p:blipFill>
          <a:blip r:embed="rId5"/>
          <a:stretch/>
        </p:blipFill>
        <p:spPr>
          <a:xfrm>
            <a:off x="7391520" y="2362320"/>
            <a:ext cx="1333440" cy="3427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10"/>
          <p:cNvSpPr/>
          <p:nvPr/>
        </p:nvSpPr>
        <p:spPr>
          <a:xfrm>
            <a:off x="533520" y="312408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pass for European Voluntary Servi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ery actively used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uropean Year of Volunteering: EVS and Youthpass experiences presented in the launch ev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1E4E-E0A0-438B-B027-E2900FB13DA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-457200" y="18288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79" name="Line 8"/>
          <p:cNvSpPr/>
          <p:nvPr/>
        </p:nvSpPr>
        <p:spPr>
          <a:xfrm>
            <a:off x="609480" y="289548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9" descr="Youthpass-Logo"/>
          <p:cNvPicPr/>
          <p:nvPr/>
        </p:nvPicPr>
        <p:blipFill>
          <a:blip r:embed="rId5"/>
          <a:stretch/>
        </p:blipFill>
        <p:spPr>
          <a:xfrm>
            <a:off x="7315200" y="2362320"/>
            <a:ext cx="1333440" cy="342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"/>
          <p:cNvSpPr/>
          <p:nvPr/>
        </p:nvSpPr>
        <p:spPr>
          <a:xfrm>
            <a:off x="533520" y="320040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pass for Youth in the World (Youth Exchanges and Training Courses) - A.3.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ailable since April 2009, Youthpass is available for this action and is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troactively val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for projects supported since 01 January 2007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DD00-BF05-46CB-86A5-1EDB8E7E855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533880" y="1828800"/>
            <a:ext cx="9372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4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89" name="Line 8"/>
          <p:cNvSpPr/>
          <p:nvPr/>
        </p:nvSpPr>
        <p:spPr>
          <a:xfrm>
            <a:off x="533520" y="281952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9" descr="Youthpass-Logo"/>
          <p:cNvPicPr/>
          <p:nvPr/>
        </p:nvPicPr>
        <p:blipFill>
          <a:blip r:embed="rId5"/>
          <a:stretch/>
        </p:blipFill>
        <p:spPr>
          <a:xfrm>
            <a:off x="7620120" y="2286000"/>
            <a:ext cx="1333440" cy="34308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10"/>
          <p:cNvSpPr/>
          <p:nvPr/>
        </p:nvSpPr>
        <p:spPr>
          <a:xfrm>
            <a:off x="609480" y="3200400"/>
            <a:ext cx="777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pass for Training Courses.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 4.3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o far only training courses, will be developed also for seminars and job shadowing projects, testing in 201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9AA7-C9E4-4126-BB0C-5751ABA12B5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-533880" y="1371600"/>
            <a:ext cx="9372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4.3 Training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99" name="Line 8"/>
          <p:cNvSpPr/>
          <p:nvPr/>
        </p:nvSpPr>
        <p:spPr>
          <a:xfrm>
            <a:off x="533520" y="22096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9" descr="Youthpass-Logo"/>
          <p:cNvPicPr/>
          <p:nvPr/>
        </p:nvPicPr>
        <p:blipFill>
          <a:blip r:embed="rId5"/>
          <a:stretch/>
        </p:blipFill>
        <p:spPr>
          <a:xfrm>
            <a:off x="7467480" y="1523880"/>
            <a:ext cx="1333800" cy="3430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1"/>
          <p:cNvSpPr/>
          <p:nvPr/>
        </p:nvSpPr>
        <p:spPr>
          <a:xfrm>
            <a:off x="457200" y="2971800"/>
            <a:ext cx="43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eneral description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ining Cour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ogo &amp; Sign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D and reference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2" descr=""/>
          <p:cNvPicPr/>
          <p:nvPr/>
        </p:nvPicPr>
        <p:blipFill>
          <a:blip r:embed="rId6"/>
          <a:stretch/>
        </p:blipFill>
        <p:spPr>
          <a:xfrm>
            <a:off x="5943600" y="2438280"/>
            <a:ext cx="2765520" cy="3962520"/>
          </a:xfrm>
          <a:prstGeom prst="rect">
            <a:avLst/>
          </a:prstGeom>
          <a:ln w="0">
            <a:noFill/>
          </a:ln>
        </p:spPr>
      </p:pic>
      <p:sp>
        <p:nvSpPr>
          <p:cNvPr id="203" name="Line 13"/>
          <p:cNvSpPr/>
          <p:nvPr/>
        </p:nvSpPr>
        <p:spPr>
          <a:xfrm>
            <a:off x="3657600" y="3124080"/>
            <a:ext cx="2521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5"/>
          <p:cNvSpPr/>
          <p:nvPr/>
        </p:nvSpPr>
        <p:spPr>
          <a:xfrm>
            <a:off x="3505320" y="4876920"/>
            <a:ext cx="26668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6"/>
          <p:cNvSpPr/>
          <p:nvPr/>
        </p:nvSpPr>
        <p:spPr>
          <a:xfrm>
            <a:off x="4876920" y="4114800"/>
            <a:ext cx="1295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7"/>
          <p:cNvSpPr/>
          <p:nvPr/>
        </p:nvSpPr>
        <p:spPr>
          <a:xfrm>
            <a:off x="3505320" y="5715000"/>
            <a:ext cx="2590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ECC3-0F12-438C-A9D0-41E28B5E57E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-533880" y="1371600"/>
            <a:ext cx="9372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4.3 Training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14" name="Line 8"/>
          <p:cNvSpPr/>
          <p:nvPr/>
        </p:nvSpPr>
        <p:spPr>
          <a:xfrm>
            <a:off x="533520" y="22096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9" descr="Youthpass-Logo"/>
          <p:cNvPicPr/>
          <p:nvPr/>
        </p:nvPicPr>
        <p:blipFill>
          <a:blip r:embed="rId5"/>
          <a:stretch/>
        </p:blipFill>
        <p:spPr>
          <a:xfrm>
            <a:off x="7467480" y="1523880"/>
            <a:ext cx="1333800" cy="3430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0"/>
          <p:cNvSpPr/>
          <p:nvPr/>
        </p:nvSpPr>
        <p:spPr>
          <a:xfrm>
            <a:off x="457200" y="2971800"/>
            <a:ext cx="436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rganiser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e training cou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ims and objecti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umber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icipant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y are coming fro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iners, main conte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nfirmation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by signa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2"/>
          <p:cNvSpPr/>
          <p:nvPr/>
        </p:nvSpPr>
        <p:spPr>
          <a:xfrm>
            <a:off x="4114800" y="3124080"/>
            <a:ext cx="19810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3"/>
          <p:cNvSpPr/>
          <p:nvPr/>
        </p:nvSpPr>
        <p:spPr>
          <a:xfrm flipV="1">
            <a:off x="1447920" y="4343040"/>
            <a:ext cx="4724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4"/>
          <p:cNvSpPr/>
          <p:nvPr/>
        </p:nvSpPr>
        <p:spPr>
          <a:xfrm>
            <a:off x="4038480" y="365760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 flipV="1">
            <a:off x="3581280" y="5486400"/>
            <a:ext cx="25146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"/>
          <p:cNvPicPr/>
          <p:nvPr/>
        </p:nvPicPr>
        <p:blipFill>
          <a:blip r:embed="rId6"/>
          <a:stretch/>
        </p:blipFill>
        <p:spPr>
          <a:xfrm>
            <a:off x="6172200" y="2514600"/>
            <a:ext cx="2832120" cy="4005360"/>
          </a:xfrm>
          <a:prstGeom prst="rect">
            <a:avLst/>
          </a:prstGeom>
          <a:ln w="0">
            <a:noFill/>
          </a:ln>
        </p:spPr>
      </p:pic>
      <p:sp>
        <p:nvSpPr>
          <p:cNvPr id="222" name="Line 17"/>
          <p:cNvSpPr/>
          <p:nvPr/>
        </p:nvSpPr>
        <p:spPr>
          <a:xfrm flipV="1">
            <a:off x="4800600" y="4114440"/>
            <a:ext cx="1752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8"/>
          <p:cNvSpPr/>
          <p:nvPr/>
        </p:nvSpPr>
        <p:spPr>
          <a:xfrm flipV="1">
            <a:off x="3200400" y="4648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ED57-51B2-4BBC-A186-1515AD095CE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-533880" y="1371600"/>
            <a:ext cx="93726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4.3 Training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31" name="Line 8"/>
          <p:cNvSpPr/>
          <p:nvPr/>
        </p:nvSpPr>
        <p:spPr>
          <a:xfrm>
            <a:off x="533520" y="22096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9" descr="Youthpass-Logo"/>
          <p:cNvPicPr/>
          <p:nvPr/>
        </p:nvPicPr>
        <p:blipFill>
          <a:blip r:embed="rId5"/>
          <a:stretch/>
        </p:blipFill>
        <p:spPr>
          <a:xfrm>
            <a:off x="7467480" y="1523880"/>
            <a:ext cx="1333800" cy="3430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0"/>
          <p:cNvSpPr/>
          <p:nvPr/>
        </p:nvSpPr>
        <p:spPr>
          <a:xfrm>
            <a:off x="380880" y="2514600"/>
            <a:ext cx="436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ge 3 f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elf-assessment/Learning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dividual description of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earning outco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Key Competenc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ignatur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particip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2"/>
          <p:cNvSpPr/>
          <p:nvPr/>
        </p:nvSpPr>
        <p:spPr>
          <a:xfrm flipV="1">
            <a:off x="4267080" y="3200400"/>
            <a:ext cx="19814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3"/>
          <p:cNvSpPr/>
          <p:nvPr/>
        </p:nvSpPr>
        <p:spPr>
          <a:xfrm>
            <a:off x="3581280" y="4648320"/>
            <a:ext cx="2743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4"/>
          <p:cNvSpPr/>
          <p:nvPr/>
        </p:nvSpPr>
        <p:spPr>
          <a:xfrm>
            <a:off x="3962520" y="388620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15"/>
          <p:cNvSpPr/>
          <p:nvPr/>
        </p:nvSpPr>
        <p:spPr>
          <a:xfrm>
            <a:off x="2057400" y="5181480"/>
            <a:ext cx="41911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17" descr=""/>
          <p:cNvPicPr/>
          <p:nvPr/>
        </p:nvPicPr>
        <p:blipFill>
          <a:blip r:embed="rId6"/>
          <a:stretch/>
        </p:blipFill>
        <p:spPr>
          <a:xfrm>
            <a:off x="6311880" y="2362320"/>
            <a:ext cx="2832120" cy="4005000"/>
          </a:xfrm>
          <a:prstGeom prst="rect">
            <a:avLst/>
          </a:prstGeom>
          <a:ln w="0">
            <a:noFill/>
          </a:ln>
        </p:spPr>
      </p:pic>
      <p:sp>
        <p:nvSpPr>
          <p:cNvPr id="239" name="Line 18"/>
          <p:cNvSpPr/>
          <p:nvPr/>
        </p:nvSpPr>
        <p:spPr>
          <a:xfrm flipV="1">
            <a:off x="3733920" y="5715000"/>
            <a:ext cx="2971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6266B-D4A0-4EF5-9C30-C3CFF1A4A5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-380880" y="190512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47" name="Line 8"/>
          <p:cNvSpPr/>
          <p:nvPr/>
        </p:nvSpPr>
        <p:spPr>
          <a:xfrm>
            <a:off x="609480" y="289548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9" descr="Youthpass-Logo"/>
          <p:cNvPicPr/>
          <p:nvPr/>
        </p:nvPicPr>
        <p:blipFill>
          <a:blip r:embed="rId5"/>
          <a:stretch/>
        </p:blipFill>
        <p:spPr>
          <a:xfrm>
            <a:off x="7391520" y="2362320"/>
            <a:ext cx="1333440" cy="3427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0"/>
          <p:cNvSpPr/>
          <p:nvPr/>
        </p:nvSpPr>
        <p:spPr>
          <a:xfrm>
            <a:off x="533520" y="3124080"/>
            <a:ext cx="82296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NEW! Youthpass in Action(s) – 5.1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 a next step, Youthpass will be developed for Meetings of young people and those responsible for youth policy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st phase developed in 201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C4390-0F7F-4D75-A9B7-10121F1877D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-381240" y="1905120"/>
            <a:ext cx="8839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87624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inciples of Youthpass in Youth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762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64" name="Line 8"/>
          <p:cNvSpPr/>
          <p:nvPr/>
        </p:nvSpPr>
        <p:spPr>
          <a:xfrm>
            <a:off x="685800" y="28954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Youthpass-Logo"/>
          <p:cNvPicPr/>
          <p:nvPr/>
        </p:nvPicPr>
        <p:blipFill>
          <a:blip r:embed="rId5"/>
          <a:stretch/>
        </p:blipFill>
        <p:spPr>
          <a:xfrm>
            <a:off x="7238880" y="1905120"/>
            <a:ext cx="1333800" cy="3427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2"/>
          <p:cNvSpPr/>
          <p:nvPr/>
        </p:nvSpPr>
        <p:spPr>
          <a:xfrm>
            <a:off x="569160" y="2955960"/>
            <a:ext cx="780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Strategy on the validation and recognition of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formal learning within the context of Youth in Actio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and will be used in an European context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to validate learning outco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CD0C-71B3-47A3-9B9E-43ECED946D6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8"/>
          <p:cNvSpPr/>
          <p:nvPr/>
        </p:nvSpPr>
        <p:spPr>
          <a:xfrm>
            <a:off x="533520" y="1752480"/>
            <a:ext cx="830556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Youthpass in Youth in Action proc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Youthpass and planning-evaluating the learning experiences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200" spc="-1" strike="noStrike">
                <a:solidFill>
                  <a:srgbClr val="000000"/>
                </a:solidFill>
                <a:latin typeface="Arial"/>
              </a:rPr>
              <a:t>plan to be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etter integrated in the Programme Guide a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as in the application form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609480" y="236232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1" descr="Youthpass-Logo"/>
          <p:cNvPicPr/>
          <p:nvPr/>
        </p:nvPicPr>
        <p:blipFill>
          <a:blip r:embed="rId5"/>
          <a:stretch/>
        </p:blipFill>
        <p:spPr>
          <a:xfrm>
            <a:off x="6659640" y="1555920"/>
            <a:ext cx="144288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2DABC-D9EA-46F8-9CCC-C883C0E84A3E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-457200" y="83808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echnical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67" name="Line 8"/>
          <p:cNvSpPr/>
          <p:nvPr/>
        </p:nvSpPr>
        <p:spPr>
          <a:xfrm>
            <a:off x="533520" y="182880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9" descr="Youthpass-Logo"/>
          <p:cNvPicPr/>
          <p:nvPr/>
        </p:nvPicPr>
        <p:blipFill>
          <a:blip r:embed="rId5"/>
          <a:stretch/>
        </p:blipFill>
        <p:spPr>
          <a:xfrm>
            <a:off x="7467480" y="1371600"/>
            <a:ext cx="1333800" cy="3430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0"/>
          <p:cNvSpPr/>
          <p:nvPr/>
        </p:nvSpPr>
        <p:spPr>
          <a:xfrm>
            <a:off x="609480" y="1981080"/>
            <a:ext cx="83059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chnical solution to generate Youthpass at organisational level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thpass is located at COM web sit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ww.youthpass.e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3" descr=""/>
          <p:cNvPicPr/>
          <p:nvPr/>
        </p:nvPicPr>
        <p:blipFill>
          <a:blip r:embed="rId6"/>
          <a:stretch/>
        </p:blipFill>
        <p:spPr>
          <a:xfrm>
            <a:off x="2514600" y="2743200"/>
            <a:ext cx="4294080" cy="32194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16" descr="Untitled2"/>
          <p:cNvPicPr/>
          <p:nvPr/>
        </p:nvPicPr>
        <p:blipFill>
          <a:blip r:embed="rId7"/>
          <a:stretch/>
        </p:blipFill>
        <p:spPr>
          <a:xfrm>
            <a:off x="2514600" y="2743200"/>
            <a:ext cx="429264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42AD-F215-483A-8656-4DFB5C13EED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79" name="Rectangle 8"/>
          <p:cNvSpPr/>
          <p:nvPr/>
        </p:nvSpPr>
        <p:spPr>
          <a:xfrm>
            <a:off x="533520" y="1676520"/>
            <a:ext cx="861048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ortant recent benchmark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thpass result analysi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Youthpass-related developments since 2005 http://www.youthpass.eu/en/youthpass/downloads/analysis/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Youthpass – state of pla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ean Commission proposes to pursue and consolidate the Youthpass implementation until the end of the Youth in Action period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ttp://www.youthpass.eu/downloads/13-62-55/Youthpass-state-of-play.pd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9"/>
          <p:cNvSpPr/>
          <p:nvPr/>
        </p:nvSpPr>
        <p:spPr>
          <a:xfrm>
            <a:off x="609480" y="220968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Youthpass-Logo"/>
          <p:cNvPicPr/>
          <p:nvPr/>
        </p:nvPicPr>
        <p:blipFill>
          <a:blip r:embed="rId5"/>
          <a:stretch/>
        </p:blipFill>
        <p:spPr>
          <a:xfrm>
            <a:off x="6659640" y="1555920"/>
            <a:ext cx="1442880" cy="37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A12D-125E-4C35-9956-195A3C631F1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8"/>
          <p:cNvSpPr/>
          <p:nvPr/>
        </p:nvSpPr>
        <p:spPr>
          <a:xfrm>
            <a:off x="457200" y="1676520"/>
            <a:ext cx="868680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pcoming activiti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thpass guid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Chapter Action 1.2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under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ransl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Youthpass guide: DE, GR, SI, PT, ES and HR on the 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533520" y="22096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0" descr="Youthpass-Logo"/>
          <p:cNvPicPr/>
          <p:nvPr/>
        </p:nvPicPr>
        <p:blipFill>
          <a:blip r:embed="rId5"/>
          <a:stretch/>
        </p:blipFill>
        <p:spPr>
          <a:xfrm>
            <a:off x="6659640" y="1555920"/>
            <a:ext cx="1442880" cy="371160"/>
          </a:xfrm>
          <a:prstGeom prst="rect">
            <a:avLst/>
          </a:prstGeom>
          <a:ln w="0">
            <a:noFill/>
          </a:ln>
        </p:spPr>
      </p:pic>
      <p:sp>
        <p:nvSpPr>
          <p:cNvPr id="292" name="Rectangle 11"/>
          <p:cNvSpPr/>
          <p:nvPr/>
        </p:nvSpPr>
        <p:spPr>
          <a:xfrm>
            <a:off x="457200" y="3429000"/>
            <a:ext cx="85345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outhpass websit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wnloads sec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 analysis / booklet “Youthpass for ALL!” /essay “The Youthpass process and Learning to Learn. Some ideas for practitioners” / The booklet for EVS trainers “Youthpass in the EVS training cycle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2000" spc="-1" strike="noStrike">
                <a:solidFill>
                  <a:srgbClr val="000000"/>
                </a:solidFill>
                <a:latin typeface="Arial"/>
              </a:rPr>
              <a:t>Trend: f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m technique to more educational support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od practice, experience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9712-E6B3-4E9E-AC03-E4227D098AF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-457200" y="13716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LTO T&amp;CRC Suppor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13"/>
              </a:spcBef>
              <a:spcAft>
                <a:spcPts val="11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300" name="Line 8"/>
          <p:cNvSpPr/>
          <p:nvPr/>
        </p:nvSpPr>
        <p:spPr>
          <a:xfrm>
            <a:off x="533520" y="19810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9" descr="Youthpass-Logo"/>
          <p:cNvPicPr/>
          <p:nvPr/>
        </p:nvPicPr>
        <p:blipFill>
          <a:blip r:embed="rId5"/>
          <a:stretch/>
        </p:blipFill>
        <p:spPr>
          <a:xfrm>
            <a:off x="7238880" y="1447920"/>
            <a:ext cx="1333800" cy="3427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10"/>
          <p:cNvSpPr/>
          <p:nvPr/>
        </p:nvSpPr>
        <p:spPr>
          <a:xfrm>
            <a:off x="609480" y="2209680"/>
            <a:ext cx="815364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technical questions(Data protection &amp; security, procedures, monitoring...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Web site www.youthandrecognition.e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Communication strategy (NAs, Project Promoters, trainers and youth workers, participants, various stakeholders)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Training cours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Support(Help desk for NAs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2E87-02BB-4840-8B86-AEB736D3C1F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8"/>
          <p:cNvSpPr/>
          <p:nvPr/>
        </p:nvSpPr>
        <p:spPr>
          <a:xfrm>
            <a:off x="609480" y="1676520"/>
            <a:ext cx="8229600" cy="51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cognition of non-formal learning and Youthpa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ass changes expected in 201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ropass + European Skills Passport – formal, non-formal and informal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arning (needs to be documented). Youthpass expected to b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tible with 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general the development towards integrating the key compet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amework in the EP documents – common language in different fiel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thways paper 2.0 -&gt; European Expert group on recognition of yout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 and NF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mposium of NFL in Nov, Strasbou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9"/>
          <p:cNvSpPr/>
          <p:nvPr/>
        </p:nvSpPr>
        <p:spPr>
          <a:xfrm>
            <a:off x="609480" y="220968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0" descr="Youthpass-Logo"/>
          <p:cNvPicPr/>
          <p:nvPr/>
        </p:nvPicPr>
        <p:blipFill>
          <a:blip r:embed="rId5"/>
          <a:stretch/>
        </p:blipFill>
        <p:spPr>
          <a:xfrm>
            <a:off x="7701120" y="1295280"/>
            <a:ext cx="144288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CA742-BD3F-4CAF-AF88-6FB48B41B73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1447920" y="228600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0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8"/>
          <p:cNvSpPr/>
          <p:nvPr/>
        </p:nvSpPr>
        <p:spPr>
          <a:xfrm>
            <a:off x="1258920" y="1773360"/>
            <a:ext cx="7345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9"/>
          <p:cNvSpPr/>
          <p:nvPr/>
        </p:nvSpPr>
        <p:spPr>
          <a:xfrm>
            <a:off x="1403280" y="220500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1619280" y="234936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1547640" y="256536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2"/>
          <p:cNvSpPr/>
          <p:nvPr/>
        </p:nvSpPr>
        <p:spPr>
          <a:xfrm>
            <a:off x="1476360" y="2492280"/>
            <a:ext cx="720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3"/>
          <p:cNvSpPr/>
          <p:nvPr/>
        </p:nvSpPr>
        <p:spPr>
          <a:xfrm>
            <a:off x="1476360" y="24224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1258920" y="2421000"/>
            <a:ext cx="69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5"/>
          <p:cNvSpPr/>
          <p:nvPr/>
        </p:nvSpPr>
        <p:spPr>
          <a:xfrm>
            <a:off x="1476360" y="3606840"/>
            <a:ext cx="684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4716360" y="2765520"/>
            <a:ext cx="115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7"/>
          <p:cNvSpPr/>
          <p:nvPr/>
        </p:nvSpPr>
        <p:spPr>
          <a:xfrm>
            <a:off x="1908000" y="24922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8" descr="Winkende-Menschen"/>
          <p:cNvPicPr/>
          <p:nvPr/>
        </p:nvPicPr>
        <p:blipFill>
          <a:blip r:embed="rId5"/>
          <a:stretch/>
        </p:blipFill>
        <p:spPr>
          <a:xfrm>
            <a:off x="4427640" y="3068640"/>
            <a:ext cx="3655800" cy="240012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19"/>
          <p:cNvSpPr/>
          <p:nvPr/>
        </p:nvSpPr>
        <p:spPr>
          <a:xfrm>
            <a:off x="1042920" y="3213000"/>
            <a:ext cx="2665440" cy="3070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te of art: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Feb 201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0"/>
          <p:cNvSpPr/>
          <p:nvPr/>
        </p:nvSpPr>
        <p:spPr>
          <a:xfrm>
            <a:off x="1763640" y="2565360"/>
            <a:ext cx="478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ank you very much for your attention !!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1042920" y="3789360"/>
            <a:ext cx="2735280" cy="14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tact: Kristiina </a:t>
            </a: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Pernits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kristiina@salto-youth.net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0000"/>
                </a:solidFill>
                <a:latin typeface="Arial"/>
              </a:rPr>
              <a:t>Recognition news on Twitter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400" spc="-1" strike="noStrike">
                <a:solidFill>
                  <a:srgbClr val="009999"/>
                </a:solidFill>
                <a:latin typeface="Arial"/>
              </a:rPr>
              <a:t>SALTOrecogniti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22" descr="Youthpass-Logo"/>
          <p:cNvPicPr/>
          <p:nvPr/>
        </p:nvPicPr>
        <p:blipFill>
          <a:blip r:embed="rId6"/>
          <a:stretch/>
        </p:blipFill>
        <p:spPr>
          <a:xfrm>
            <a:off x="6877080" y="1557360"/>
            <a:ext cx="13334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792A-0184-44C4-A6DA-768853E0E9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-305280" y="19807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lvl="2" marL="16164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inciples of Youthpass in Youth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thpass was developed with different stakehold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uropean Commission , National Agen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tnership - The Council of Euro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European Youth For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 form the Youth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tions, participants and stakeholders from the private and public sec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6164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74" name="Line 8"/>
          <p:cNvSpPr/>
          <p:nvPr/>
        </p:nvSpPr>
        <p:spPr>
          <a:xfrm>
            <a:off x="685800" y="28954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Youthpass-Logo"/>
          <p:cNvPicPr/>
          <p:nvPr/>
        </p:nvPicPr>
        <p:blipFill>
          <a:blip r:embed="rId5"/>
          <a:stretch/>
        </p:blipFill>
        <p:spPr>
          <a:xfrm>
            <a:off x="7391520" y="1371600"/>
            <a:ext cx="133344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6ACE-1826-42BB-A20C-8F008F612C4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457560" y="1600200"/>
            <a:ext cx="88390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inciples of Youthpass in Youth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thpass is linked to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The Lisbon strateg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wth and Jobs communication 200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the European Youth pact Integrated guideli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the Lifelong Learning strategy/Education and Training 2010 work programme (EQF, Key Competences..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Youth policy development of the EC: White paper process (2001), The Pathway towards validation and recognition (2004) and the Resolution of the Council on the recognition of the value of non-formal and informal learning within the European youth field (200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1900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83" name="Line 8"/>
          <p:cNvSpPr/>
          <p:nvPr/>
        </p:nvSpPr>
        <p:spPr>
          <a:xfrm>
            <a:off x="533520" y="24382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Youthpass-Logo"/>
          <p:cNvPicPr/>
          <p:nvPr/>
        </p:nvPicPr>
        <p:blipFill>
          <a:blip r:embed="rId5"/>
          <a:stretch/>
        </p:blipFill>
        <p:spPr>
          <a:xfrm>
            <a:off x="7543800" y="1523880"/>
            <a:ext cx="133344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AFD3-85E7-4140-A207-541D52CBBA6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-533520" y="1523880"/>
            <a:ext cx="922032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lvl="2" marL="82872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inciples of Youthpass in Youth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2872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872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thpass uses the Key Competences (adopted in December 2006, part of European Qualifications Framework)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in mother ton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cation in foreign tong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hematical competence and basic competence in science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compete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to lea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and civ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ten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se of initiative and entrepreneu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ltural awareness and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287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92" name="Line 8"/>
          <p:cNvSpPr/>
          <p:nvPr/>
        </p:nvSpPr>
        <p:spPr>
          <a:xfrm>
            <a:off x="533520" y="1981080"/>
            <a:ext cx="70293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9" descr="Youthpass-Logo"/>
          <p:cNvPicPr/>
          <p:nvPr/>
        </p:nvPicPr>
        <p:blipFill>
          <a:blip r:embed="rId5"/>
          <a:stretch/>
        </p:blipFill>
        <p:spPr>
          <a:xfrm>
            <a:off x="7543800" y="1219320"/>
            <a:ext cx="13334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7974-10B1-4843-BE45-5205F5E9867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-457560" y="1981080"/>
            <a:ext cx="891540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inciples of Youthpass in Youth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ments should be developed in a way that takes full account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ee essential el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volved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 algn="ctr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flection upon the personal non-formal learning proces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 algn="ctr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ocial recognition of youth wor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 algn="ctr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mployability of young people and youth wo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01" name="Line 8"/>
          <p:cNvSpPr/>
          <p:nvPr/>
        </p:nvSpPr>
        <p:spPr>
          <a:xfrm>
            <a:off x="609480" y="297180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Youthpass-Logo"/>
          <p:cNvPicPr/>
          <p:nvPr/>
        </p:nvPicPr>
        <p:blipFill>
          <a:blip r:embed="rId5"/>
          <a:stretch/>
        </p:blipFill>
        <p:spPr>
          <a:xfrm>
            <a:off x="7315200" y="1905120"/>
            <a:ext cx="1333440" cy="3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8724-B4E4-4564-81C5-49C4D71BF66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8839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Principles of Youthpass in Youth in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participant in Youth in Action activities of Action 1.1, 1.2 , Action 2, Action 3.1(youth excanges and training courses) and Action 4.3 is individual entitled to receive Youthpa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ponsibility to implement, generate and issue Youthpass is at organisational level. National Agencies offer support in different ways (link, information, training..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10" name="Line 8"/>
          <p:cNvSpPr/>
          <p:nvPr/>
        </p:nvSpPr>
        <p:spPr>
          <a:xfrm>
            <a:off x="533520" y="2514600"/>
            <a:ext cx="80010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9" descr="Youthpass-Logo"/>
          <p:cNvPicPr/>
          <p:nvPr/>
        </p:nvPicPr>
        <p:blipFill>
          <a:blip r:embed="rId5"/>
          <a:stretch/>
        </p:blipFill>
        <p:spPr>
          <a:xfrm>
            <a:off x="7315200" y="1600200"/>
            <a:ext cx="1333440" cy="3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5258-4D61-4806-8D61-0D3F59F31F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80880" y="198108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19" name="Line 8"/>
          <p:cNvSpPr/>
          <p:nvPr/>
        </p:nvSpPr>
        <p:spPr>
          <a:xfrm>
            <a:off x="609480" y="289548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9" descr="Youthpass-Logo"/>
          <p:cNvPicPr/>
          <p:nvPr/>
        </p:nvPicPr>
        <p:blipFill>
          <a:blip r:embed="rId5"/>
          <a:stretch/>
        </p:blipFill>
        <p:spPr>
          <a:xfrm>
            <a:off x="7467480" y="2286000"/>
            <a:ext cx="1333800" cy="343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1371600" y="3124080"/>
            <a:ext cx="685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thpass in Action  1.1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 Exchang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ertificate version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re available in 21 languages so fa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certificate is about to change in the coming months and include the description of learning result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7CD42-1E6B-432A-863C-CED49CE5776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533520" cy="5486400"/>
          </a:xfrm>
          <a:prstGeom prst="rect">
            <a:avLst/>
          </a:prstGeom>
          <a:gradFill rotWithShape="0">
            <a:gsLst>
              <a:gs pos="0">
                <a:srgbClr val="6600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457200" y="1752480"/>
            <a:ext cx="723888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952560" indent="0">
              <a:lnSpc>
                <a:spcPct val="11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110000"/>
              </a:lnSpc>
              <a:spcBef>
                <a:spcPts val="150"/>
              </a:spcBef>
              <a:spcAft>
                <a:spcPts val="15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Youthpass in Action(s) -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Fotoblau2 Kopie"/>
          <p:cNvPicPr/>
          <p:nvPr/>
        </p:nvPicPr>
        <p:blipFill>
          <a:blip r:embed="rId1"/>
          <a:stretch/>
        </p:blipFill>
        <p:spPr>
          <a:xfrm>
            <a:off x="0" y="685800"/>
            <a:ext cx="3486240" cy="4478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logo-training horizontal"/>
          <p:cNvPicPr/>
          <p:nvPr/>
        </p:nvPicPr>
        <p:blipFill>
          <a:blip r:embed="rId2"/>
          <a:stretch/>
        </p:blipFill>
        <p:spPr>
          <a:xfrm>
            <a:off x="468360" y="5950080"/>
            <a:ext cx="2894040" cy="493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32000" cy="1054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4284720" y="0"/>
            <a:ext cx="1962000" cy="1231920"/>
          </a:xfrm>
          <a:prstGeom prst="rect">
            <a:avLst/>
          </a:prstGeom>
          <a:ln w="0">
            <a:noFill/>
          </a:ln>
        </p:spPr>
      </p:pic>
      <p:sp>
        <p:nvSpPr>
          <p:cNvPr id="129" name="Line 8"/>
          <p:cNvSpPr/>
          <p:nvPr/>
        </p:nvSpPr>
        <p:spPr>
          <a:xfrm>
            <a:off x="609480" y="2819520"/>
            <a:ext cx="70297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Youthpass-Logo"/>
          <p:cNvPicPr/>
          <p:nvPr/>
        </p:nvPicPr>
        <p:blipFill>
          <a:blip r:embed="rId5"/>
          <a:stretch/>
        </p:blipFill>
        <p:spPr>
          <a:xfrm>
            <a:off x="7391520" y="2286000"/>
            <a:ext cx="1333440" cy="343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0"/>
          <p:cNvSpPr/>
          <p:nvPr/>
        </p:nvSpPr>
        <p:spPr>
          <a:xfrm>
            <a:off x="609480" y="3048120"/>
            <a:ext cx="822960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Youthpass in Action  1.1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th Exchan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gration of individual learning results (key competenc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tegrated approach as in EVS and training courses (page 1 &amp; 2, KCs from page 3 onward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year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12:44:05Z</dcterms:created>
  <dc:creator>Frank Peil</dc:creator>
  <dc:description/>
  <dc:language>en-US</dc:language>
  <cp:lastModifiedBy>Markus Rebitschek</cp:lastModifiedBy>
  <dcterms:modified xsi:type="dcterms:W3CDTF">2012-03-12T21:09:15Z</dcterms:modified>
  <cp:revision>115</cp:revision>
  <dc:subject/>
  <dc:title>PowerPoint Presentation  -  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MarkAsFinal">
    <vt:bool>1</vt:bool>
  </property>
</Properties>
</file>